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6.jpeg" ContentType="image/jpeg"/>
  <Override PartName="/ppt/media/image12.jpeg" ContentType="image/jpeg"/>
  <Override PartName="/ppt/media/image34.png" ContentType="image/png"/>
  <Override PartName="/ppt/media/image33.png" ContentType="image/png"/>
  <Override PartName="/ppt/media/image35.png" ContentType="image/png"/>
  <Override PartName="/ppt/media/image38.jpeg" ContentType="image/jpeg"/>
  <Override PartName="/ppt/media/image28.png" ContentType="image/png"/>
  <Override PartName="/ppt/media/image57.wmf" ContentType="image/x-wmf"/>
  <Override PartName="/ppt/media/image58.wmf" ContentType="image/x-wmf"/>
  <Override PartName="/ppt/media/image6.jpeg" ContentType="image/jpeg"/>
  <Override PartName="/ppt/media/image14.png" ContentType="image/png"/>
  <Override PartName="/ppt/media/image67.jpeg" ContentType="image/jpeg"/>
  <Override PartName="/ppt/media/image66.jpeg" ContentType="image/jpeg"/>
  <Override PartName="/ppt/media/image11.png" ContentType="image/png"/>
  <Override PartName="/ppt/media/image48.png" ContentType="image/png"/>
  <Override PartName="/ppt/media/image27.jpeg" ContentType="image/jpeg"/>
  <Override PartName="/ppt/media/image65.wmf" ContentType="image/x-wmf"/>
  <Override PartName="/ppt/media/image19.jpeg" ContentType="image/jpeg"/>
  <Override PartName="/ppt/media/image64.wmf" ContentType="image/x-wmf"/>
  <Override PartName="/ppt/media/image26.png" ContentType="image/png"/>
  <Override PartName="/ppt/media/image61.jpeg" ContentType="image/jpeg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63.jpeg" ContentType="image/jpeg"/>
  <Override PartName="/ppt/media/image29.png" ContentType="image/pn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50.png" ContentType="image/png"/>
  <Override PartName="/ppt/media/image62.jpeg" ContentType="image/jpeg"/>
  <Override PartName="/ppt/media/image7.png" ContentType="image/png"/>
  <Override PartName="/ppt/media/image30.jpeg" ContentType="image/jpe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9.jpeg" ContentType="image/jpeg"/>
  <Override PartName="/ppt/media/image36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2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415-DA18-4072-B5FF-1E72EA59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D55-ECF6-45B3-9ADD-6926AF57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DCD-0225-42BC-94DB-05E6F2B8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F44-04CE-429F-A20F-10353FE0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ECF-B39E-4E73-AD9F-E89DF8A5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75D-1C4A-4A17-80ED-5F9F2760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87D-FE55-4382-8FA2-C7F3E5B3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F37-0337-4946-B0AE-A1202D3A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AB2-A7FD-409D-A5C8-0C612216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415-B475-4C60-9833-DCA2E0C7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944-B368-400A-9E36-D0A0987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351-D827-4C7F-B462-F29C743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CD62-2580-4E91-B841-321C1F4E4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rince2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26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imulations of Volcanic Plumes and Aurora on Io by the ASE/Astro “Io Group”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9040" y="34286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. Moore, B. Larignon, P. Mader, J. Zhang, K. Mik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P.L. Varghese, L. Trafton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D. Gold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ASE/EM and Astronomy Deptar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upported by NASA Planetary Atmospheres Program and the HST Archiv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76320" cy="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 Voyager Image of Prometh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495680" cy="1130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uraging semi-quantitative similarities of the integrated gas column density to the Voyager image (Strom &amp; Schneider, 1981) of Promethe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oyager image likely shows the solar reflection of the fine particulates in the plume (&lt;10 nm, Collins 1981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lumn density of 1 nm refractory particle plumes indeed shows convincing similarities to the Voyager image as does the g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1143000"/>
            <a:ext cx="533520" cy="457200"/>
          </a:xfrm>
          <a:prstGeom prst="ellipse">
            <a:avLst/>
          </a:prstGeom>
          <a:noFill/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752480"/>
            <a:ext cx="18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Voyager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99840" y="33526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Gas number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876920"/>
            <a:ext cx="33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Gas column density (tangent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8120" y="6400800"/>
            <a:ext cx="42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 1 nm particle column density (tangent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-76320" y="3657600"/>
            <a:ext cx="5210280" cy="129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-76320" y="5180040"/>
            <a:ext cx="5210280" cy="1297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-76320" y="2131920"/>
            <a:ext cx="5210280" cy="129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95480" y="4191120"/>
            <a:ext cx="533520" cy="457200"/>
          </a:xfrm>
          <a:prstGeom prst="ellipse">
            <a:avLst/>
          </a:prstGeom>
          <a:noFill/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5715000"/>
            <a:ext cx="533520" cy="457200"/>
          </a:xfrm>
          <a:prstGeom prst="ellipse">
            <a:avLst/>
          </a:prstGeom>
          <a:noFill/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/particle Flow Modelin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as/particle collision mode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costly f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 micron and larger partic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i)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ag mode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suming free-molecular flow – particle diameter based Kn &gt;&gt; 1, 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= f(s) (Bird, 1994)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. Obtain smooth steady gas flow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. Release particles at zero velocity from the vent and calculate the drag on the parti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3. Calculate acceleration of particles and mov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800" y="1143000"/>
            <a:ext cx="86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wo “Overlay” Methods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assuming dilute particle flow)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articles are assumed to be spherical, refractory and have a densit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iquid SO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2400" y="25146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3124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3276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91520" y="2324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840" y="3429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 molec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91520" y="30477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79246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72388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696080" y="29718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4800600"/>
            <a:ext cx="144792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38880" y="5676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3800" y="4686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5486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077320" y="45720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5640" y="63388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467480" y="61718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431800" y="538200"/>
            <a:ext cx="441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Gas/particle F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2320" y="1727280"/>
            <a:ext cx="8036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centration of particles near the shock is seen for p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ith size of 0.01   m up to 0.1   m (agree with size range analy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y Collins ‘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sorting of particles by size inside the plume and on the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finer particles falling further away from the 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large particles stay close to the axis and land close to the 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0920" y="2133720"/>
                <a:ext cx="2412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038480" y="2133720"/>
                <a:ext cx="241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280" y="3962520"/>
            <a:ext cx="883944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metric Study of Particle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7760" y="539640"/>
            <a:ext cx="4570560" cy="113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7760" y="2819520"/>
            <a:ext cx="4570560" cy="1136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7760" y="5262480"/>
            <a:ext cx="4570560" cy="1138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6320" y="1676520"/>
            <a:ext cx="4570200" cy="1137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77760" y="3917880"/>
            <a:ext cx="4570560" cy="1138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089680" y="148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480" y="6094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1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840" y="18288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3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2000" y="297972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1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6200" y="40705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 3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27880" y="548640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) 10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1508040"/>
            <a:ext cx="396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particles (~1 nm) track gas flow well, reproduce plume image in the outer portion of the plu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upling between gas and particle motion starts early for large parti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 of particle size in the outer portion of the plume is 10 nm. consistent with Collins 198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cle Size Dependence of the Respon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nm particle tracks the gas flow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 particles are less responsive to the accelerating gas f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urning flow near the re-entry shock acts like a cyclone separator: the larger particles are sorted from the small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657600" cy="163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29200" y="2819520"/>
            <a:ext cx="3657600" cy="1631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70760" y="28195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1 nm par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3400" y="44197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3 nm par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04720" y="4800600"/>
            <a:ext cx="414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isons of gas streamlines (black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ajectories of entrained particles (r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rface temperature is 110 K and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 number density contours are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the le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39625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 Voyager Image of Prometh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811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latively high brightness near the surface (within ~5 km above the surface on the left side of the plume) is also seen in the Voyager image of Prometheus indicating a high particle column density t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eature can also be reproduced by a plume of nano-size particle at a slightly higher surface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762120" y="5257800"/>
            <a:ext cx="3531960" cy="887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76520" y="5791320"/>
            <a:ext cx="533160" cy="457200"/>
          </a:xfrm>
          <a:prstGeom prst="ellipse">
            <a:avLst/>
          </a:prstGeom>
          <a:noFill/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7520" y="3505320"/>
            <a:ext cx="5210280" cy="1296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5210280" cy="1297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6520" y="4267080"/>
            <a:ext cx="533160" cy="457200"/>
          </a:xfrm>
          <a:prstGeom prst="ellipse">
            <a:avLst/>
          </a:prstGeom>
          <a:noFill/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114800"/>
            <a:ext cx="762120" cy="685800"/>
          </a:xfrm>
          <a:prstGeom prst="ellipse">
            <a:avLst/>
          </a:prstGeom>
          <a:noFill/>
          <a:ln w="2844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5638680"/>
            <a:ext cx="762120" cy="685800"/>
          </a:xfrm>
          <a:prstGeom prst="ellipse">
            <a:avLst/>
          </a:prstGeom>
          <a:noFill/>
          <a:ln w="2844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80520" y="18669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=108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09240" y="18432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=106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13880" y="36957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n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-1219320" y="-838080"/>
            <a:ext cx="10972800" cy="8234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0" y="2438280"/>
            <a:ext cx="838080" cy="762120"/>
          </a:xfrm>
          <a:prstGeom prst="ellipse">
            <a:avLst/>
          </a:prstGeom>
          <a:noFill/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 Voyager Image of P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qualitative similarities were also found for P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cone” shape contours in the vent vicinity in the Voyager image cannot be reproduced by 1 nm particle plu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4190760" cy="1874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4267080" cy="1631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4190760" cy="1876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41200" y="236232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Voyager image of P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240" y="4419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Gas column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87120" y="624852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1 nm particle column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ching Voyager Image of Pe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80880" y="838080"/>
            <a:ext cx="2514600" cy="22370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3810240" cy="1457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0" y="3048120"/>
            <a:ext cx="3429000" cy="3073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4267080" y="1066680"/>
            <a:ext cx="4570560" cy="2052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126800" y="29718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10 micr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0" y="594360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Log normal size distribution (5-10 micron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-dependent scatter efficien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77520" y="525780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Better match to Voyager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4200" y="62085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4343400"/>
            <a:ext cx="533160" cy="45720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24080" y="4800600"/>
            <a:ext cx="2895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ing Plume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4343400" cy="19429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markable reddish shadow cast by Prometheus is seen in the Galileo im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ar zenith angle at the Prometheus vent is ~78deg. The column densities projected from the sun onto Io's surface at this angle were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``finger'' shape is found to be best reproduced by a plume of ~10-100 nm particles. The ``mushroom'' shape may be reproduced by 1 nm parti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>
            <a:lum bright="26000"/>
          </a:blip>
          <a:stretch/>
        </p:blipFill>
        <p:spPr>
          <a:xfrm>
            <a:off x="0" y="609480"/>
            <a:ext cx="4191120" cy="2211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4846680"/>
            <a:ext cx="4495680" cy="2011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582360" y="403848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Two talks for the price of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ackground on Io’s volcanic plu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umerical methods and basic features associated with simulated plu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Flow Conditions (example resul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Innovations DSMC methods (VT energy transfer, etc.)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Gas/particle flow mode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tching observations with the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Parametric study on vent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Reproducing Voyager plume images by gas and dust flow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Plume deposition profiles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d then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ackground on Io’s aur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umerical simulations of electron motion and Io’s full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hy does the wake g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ing the Multiple Ring Deposition Structure around Prometh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112760" y="1981080"/>
            <a:ext cx="691848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282320" y="597996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issl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18880" y="528480"/>
            <a:ext cx="71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rametric Study on Surface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809880" cy="3382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34560" y="1244520"/>
            <a:ext cx="579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t low surface temperature, the falling gas sim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ours onto the ground and condenses unimpe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 the surface temperature rises to ~111 K,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early horizontal re-entry shock and well defi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ounce region are form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position ring forms at R = ~500 k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pletion effects appear at high su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empera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15720" y="53355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umber density contours with different surf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emperature (right) and profiles of de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ate (lef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651640" y="1143000"/>
            <a:ext cx="349236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s Deposition Pattern around Prometh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deposition pattern varies as surface temperature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ultiple rings structure is seen in the time averaged deposition pro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imply that the source strength is unstea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“bounce” in the flow and/or dust deposition may be other possible causes of the multiple ring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4120" y="1722600"/>
            <a:ext cx="3276360" cy="293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990720" y="5784840"/>
                <a:ext cx="3429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bsolar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675080" y="62485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rsoll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9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419720" y="4800600"/>
            <a:ext cx="4724280" cy="1584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561280" y="449568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Gas deposition patte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70000" y="6438960"/>
            <a:ext cx="42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Surface temperature as a function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724280" y="1143000"/>
            <a:ext cx="4254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cle Deposition Pattern around Prometh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position of  nano-particles  in plumes with relatively high surface temperatures are exam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the “bouncing” with the gas flow, outer rings are indeed seen in the nano-particle deposition pro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267080" cy="3795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495680" y="5562720"/>
            <a:ext cx="4267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ffects of Unsteadiness of Volcanic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57160" cy="4495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110040" y="1676520"/>
            <a:ext cx="842760" cy="4419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843120" cy="4419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191120" y="1219320"/>
            <a:ext cx="4952880" cy="3328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41000" y="1233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30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121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1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25760" y="12193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10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6000" y="114300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) 10 min., Ts = 11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68360" y="4800600"/>
            <a:ext cx="509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pulsed sinusoidally. Other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pt cons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er moving shocks for long peri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s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onary shock for very short period puls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Plume 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canic plumes on Jupiter's moon Io are modeled using the direct simulation Monte Carlo (DSMC) meth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phisticated model including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ical geometry, variable gravity,  internal energy exchange (discrete vibration-translation and continuous rotation-translation energy exchange) in the gas, infrared and microwave emission from the gas, multi-domain sequential calculation to resolve the fast emission event and opacity, has been develop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hase gas/particle flows are modeled using “overlay” techniqu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 conditions are constrained. Observed plume image, plume shadow, deposition pattern are for the first time reasonably matched with the simulated plu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Io’s Aur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47880" y="1752480"/>
            <a:ext cx="7248240" cy="3681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90720" y="6248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issler 1999, Science 28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ST Io Aur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164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a flows right to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is of [OI] 630nm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ke bright spot is tilted relative to Io’s equator and extends ~250km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upstream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ght “equatorial band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b glow extends from the wake spot to the north polar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 emission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33412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uge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7DPS29.1802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267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 Auroral Observation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1219320"/>
            <a:ext cx="4572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Cassini flyby of Jupiter, several images of Io’s emissions were 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 spot is P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V emission shown as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Oxygen emission (630 nm) is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ed temporal variability of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 starts below plasma torus equator and crosses it as the eclipse prog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ission bright spots appear to track magnetic field t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71500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sini movie of emission around Io in eclipse (Porc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Dom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o is at the center of a  6000kmx6000kmx6000km cu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X-axis is aligned in the direction of the plasma fl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Y-axis points towards the sun/ea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tesian grid of siz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∆=60km is used for magnetic field interpo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Thermal electrons are input along the top and bottom boundaries and removed if they cross any bound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038480" y="1828800"/>
            <a:ext cx="5238720" cy="3578400"/>
            <a:chOff x="4038480" y="1828800"/>
            <a:chExt cx="5238720" cy="3578400"/>
          </a:xfrm>
        </p:grpSpPr>
        <p:sp>
          <p:nvSpPr>
            <p:cNvPr id="251" name=""/>
            <p:cNvSpPr/>
            <p:nvPr/>
          </p:nvSpPr>
          <p:spPr>
            <a:xfrm>
              <a:off x="4624920" y="2805480"/>
              <a:ext cx="2337120" cy="834120"/>
            </a:xfrm>
            <a:prstGeom prst="parallelogram">
              <a:avLst>
                <a:gd name="adj" fmla="val 70047"/>
              </a:avLst>
            </a:prstGeom>
            <a:solidFill>
              <a:srgbClr val="99c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38480" y="3644280"/>
              <a:ext cx="2337120" cy="834120"/>
            </a:xfrm>
            <a:prstGeom prst="parallelogram">
              <a:avLst>
                <a:gd name="adj" fmla="val 70047"/>
              </a:avLst>
            </a:prstGeom>
            <a:solidFill>
              <a:srgbClr val="99c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1540000">
              <a:off x="6512040" y="2081520"/>
              <a:ext cx="230400" cy="3189240"/>
            </a:xfrm>
            <a:custGeom>
              <a:avLst/>
              <a:gdLst/>
              <a:ahLst/>
              <a:rect l="l" t="t" r="r" b="b"/>
              <a:pathLst>
                <a:path w="123" h="1520">
                  <a:moveTo>
                    <a:pt x="0" y="1520"/>
                  </a:moveTo>
                  <a:cubicBezTo>
                    <a:pt x="58" y="1296"/>
                    <a:pt x="117" y="1073"/>
                    <a:pt x="120" y="820"/>
                  </a:cubicBezTo>
                  <a:cubicBezTo>
                    <a:pt x="123" y="567"/>
                    <a:pt x="71" y="283"/>
                    <a:pt x="20" y="0"/>
                  </a:cubicBezTo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1540000">
              <a:off x="6123600" y="2058840"/>
              <a:ext cx="230400" cy="3189240"/>
            </a:xfrm>
            <a:custGeom>
              <a:avLst/>
              <a:gdLst/>
              <a:ahLst/>
              <a:rect l="l" t="t" r="r" b="b"/>
              <a:pathLst>
                <a:path w="123" h="1520">
                  <a:moveTo>
                    <a:pt x="0" y="1520"/>
                  </a:moveTo>
                  <a:cubicBezTo>
                    <a:pt x="58" y="1296"/>
                    <a:pt x="117" y="1073"/>
                    <a:pt x="120" y="820"/>
                  </a:cubicBezTo>
                  <a:cubicBezTo>
                    <a:pt x="123" y="567"/>
                    <a:pt x="71" y="283"/>
                    <a:pt x="20" y="0"/>
                  </a:cubicBezTo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1540000">
              <a:off x="5747760" y="2057400"/>
              <a:ext cx="356040" cy="3189240"/>
            </a:xfrm>
            <a:custGeom>
              <a:avLst/>
              <a:gdLst/>
              <a:ahLst/>
              <a:rect l="l" t="t" r="r" b="b"/>
              <a:pathLst>
                <a:path w="123" h="1520">
                  <a:moveTo>
                    <a:pt x="0" y="1520"/>
                  </a:moveTo>
                  <a:cubicBezTo>
                    <a:pt x="58" y="1296"/>
                    <a:pt x="117" y="1073"/>
                    <a:pt x="120" y="820"/>
                  </a:cubicBezTo>
                  <a:cubicBezTo>
                    <a:pt x="123" y="567"/>
                    <a:pt x="71" y="283"/>
                    <a:pt x="20" y="0"/>
                  </a:cubicBezTo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21540000">
              <a:off x="5024520" y="2042280"/>
              <a:ext cx="641880" cy="3189240"/>
            </a:xfrm>
            <a:custGeom>
              <a:avLst/>
              <a:gdLst/>
              <a:ahLst/>
              <a:rect l="l" t="t" r="r" b="b"/>
              <a:pathLst>
                <a:path w="123" h="1520">
                  <a:moveTo>
                    <a:pt x="0" y="1520"/>
                  </a:moveTo>
                  <a:cubicBezTo>
                    <a:pt x="58" y="1296"/>
                    <a:pt x="117" y="1073"/>
                    <a:pt x="120" y="820"/>
                  </a:cubicBezTo>
                  <a:cubicBezTo>
                    <a:pt x="123" y="567"/>
                    <a:pt x="71" y="283"/>
                    <a:pt x="20" y="0"/>
                  </a:cubicBezTo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1540000">
              <a:off x="5356440" y="2077920"/>
              <a:ext cx="527400" cy="3189240"/>
            </a:xfrm>
            <a:custGeom>
              <a:avLst/>
              <a:gdLst/>
              <a:ahLst/>
              <a:rect l="l" t="t" r="r" b="b"/>
              <a:pathLst>
                <a:path w="123" h="1520">
                  <a:moveTo>
                    <a:pt x="0" y="1520"/>
                  </a:moveTo>
                  <a:cubicBezTo>
                    <a:pt x="58" y="1296"/>
                    <a:pt x="117" y="1073"/>
                    <a:pt x="120" y="820"/>
                  </a:cubicBezTo>
                  <a:cubicBezTo>
                    <a:pt x="123" y="567"/>
                    <a:pt x="71" y="283"/>
                    <a:pt x="20" y="0"/>
                  </a:cubicBezTo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1540000">
              <a:off x="4624200" y="2050920"/>
              <a:ext cx="914760" cy="3189240"/>
            </a:xfrm>
            <a:custGeom>
              <a:avLst/>
              <a:gdLst/>
              <a:ahLst/>
              <a:rect l="l" t="t" r="r" b="b"/>
              <a:pathLst>
                <a:path w="123" h="1520">
                  <a:moveTo>
                    <a:pt x="0" y="1520"/>
                  </a:moveTo>
                  <a:cubicBezTo>
                    <a:pt x="58" y="1296"/>
                    <a:pt x="117" y="1073"/>
                    <a:pt x="120" y="820"/>
                  </a:cubicBezTo>
                  <a:cubicBezTo>
                    <a:pt x="123" y="567"/>
                    <a:pt x="71" y="283"/>
                    <a:pt x="20" y="0"/>
                  </a:cubicBezTo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81360" y="2809800"/>
              <a:ext cx="2337120" cy="834120"/>
            </a:xfrm>
            <a:prstGeom prst="parallelogram">
              <a:avLst>
                <a:gd name="adj" fmla="val 70047"/>
              </a:avLst>
            </a:prstGeom>
            <a:solidFill>
              <a:srgbClr val="99c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87000" y="3650040"/>
              <a:ext cx="2337120" cy="834120"/>
            </a:xfrm>
            <a:prstGeom prst="parallelogram">
              <a:avLst>
                <a:gd name="adj" fmla="val 70047"/>
              </a:avLst>
            </a:prstGeom>
            <a:solidFill>
              <a:srgbClr val="99c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222520" y="2363760"/>
              <a:ext cx="2170800" cy="2393640"/>
              <a:chOff x="5222520" y="2363760"/>
              <a:chExt cx="2170800" cy="239364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5691960" y="2374200"/>
                <a:ext cx="11160" cy="1751760"/>
              </a:xfrm>
              <a:prstGeom prst="line">
                <a:avLst/>
              </a:prstGeom>
              <a:ln w="12600">
                <a:solidFill>
                  <a:srgbClr val="0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5222520" y="2363760"/>
                <a:ext cx="2170800" cy="2393280"/>
                <a:chOff x="5222520" y="2363760"/>
                <a:chExt cx="2170800" cy="2393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6887880" y="4127760"/>
                  <a:ext cx="467640" cy="6292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715720" y="4100400"/>
                  <a:ext cx="1677600" cy="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7369920" y="2386080"/>
                  <a:ext cx="11520" cy="17521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5234400" y="4127760"/>
                  <a:ext cx="469080" cy="6292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6900120" y="2363760"/>
                  <a:ext cx="469800" cy="6289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5234400" y="2363760"/>
                  <a:ext cx="469080" cy="6289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691600" y="2374200"/>
                  <a:ext cx="1677960" cy="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630400" y="2891880"/>
                  <a:ext cx="1405080" cy="143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>
                        <a:alpha val="92156"/>
                      </a:srgbClr>
                    </a:gs>
                    <a:gs pos="100000">
                      <a:srgbClr val="2d241b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22520" y="3003480"/>
                  <a:ext cx="1677600" cy="1738080"/>
                </a:xfrm>
                <a:prstGeom prst="rect">
                  <a:avLst/>
                </a:prstGeom>
                <a:noFill/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5632560" y="3443760"/>
                <a:ext cx="1393920" cy="203760"/>
              </a:xfrm>
              <a:custGeom>
                <a:avLst/>
                <a:gdLst/>
                <a:ahLst/>
                <a:rect l="l" t="t" r="r" b="b"/>
                <a:pathLst>
                  <a:path w="2440" h="497">
                    <a:moveTo>
                      <a:pt x="0" y="497"/>
                    </a:moveTo>
                    <a:cubicBezTo>
                      <a:pt x="83" y="412"/>
                      <a:pt x="167" y="327"/>
                      <a:pt x="300" y="257"/>
                    </a:cubicBezTo>
                    <a:cubicBezTo>
                      <a:pt x="433" y="187"/>
                      <a:pt x="580" y="114"/>
                      <a:pt x="800" y="77"/>
                    </a:cubicBezTo>
                    <a:cubicBezTo>
                      <a:pt x="1020" y="40"/>
                      <a:pt x="1370" y="0"/>
                      <a:pt x="1620" y="37"/>
                    </a:cubicBezTo>
                    <a:cubicBezTo>
                      <a:pt x="1870" y="74"/>
                      <a:pt x="2163" y="224"/>
                      <a:pt x="2300" y="297"/>
                    </a:cubicBezTo>
                    <a:cubicBezTo>
                      <a:pt x="2437" y="370"/>
                      <a:pt x="2438" y="423"/>
                      <a:pt x="2440" y="477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8320" y="3636000"/>
                <a:ext cx="1525680" cy="22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5682240" y="3829680"/>
                <a:ext cx="514800" cy="670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6709320" y="2805480"/>
                <a:ext cx="264600" cy="36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172200" y="3055680"/>
                <a:ext cx="623160" cy="802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341040" y="2914560"/>
                <a:ext cx="11160" cy="1383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5975280" y="3647520"/>
                <a:ext cx="353880" cy="18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300000">
                <a:off x="5609880" y="3624120"/>
                <a:ext cx="1438560" cy="268560"/>
              </a:xfrm>
              <a:custGeom>
                <a:avLst/>
                <a:gdLst/>
                <a:ahLst/>
                <a:rect l="l" t="t" r="r" b="b"/>
                <a:pathLst>
                  <a:path w="2520" h="470">
                    <a:moveTo>
                      <a:pt x="0" y="60"/>
                    </a:moveTo>
                    <a:cubicBezTo>
                      <a:pt x="26" y="190"/>
                      <a:pt x="53" y="320"/>
                      <a:pt x="280" y="380"/>
                    </a:cubicBezTo>
                    <a:cubicBezTo>
                      <a:pt x="507" y="440"/>
                      <a:pt x="1017" y="470"/>
                      <a:pt x="1360" y="420"/>
                    </a:cubicBezTo>
                    <a:cubicBezTo>
                      <a:pt x="1703" y="370"/>
                      <a:pt x="2160" y="150"/>
                      <a:pt x="2340" y="80"/>
                    </a:cubicBezTo>
                    <a:cubicBezTo>
                      <a:pt x="2520" y="10"/>
                      <a:pt x="2480" y="5"/>
                      <a:pt x="244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420880" y="4414680"/>
                <a:ext cx="87984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Y/ Su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76160" y="2774880"/>
                <a:ext cx="70920" cy="495360"/>
              </a:xfrm>
              <a:custGeom>
                <a:avLst/>
                <a:gdLst/>
                <a:ahLst/>
                <a:rect l="l" t="t" r="r" b="b"/>
                <a:pathLst>
                  <a:path w="120" h="998">
                    <a:moveTo>
                      <a:pt x="0" y="0"/>
                    </a:moveTo>
                    <a:cubicBezTo>
                      <a:pt x="25" y="421"/>
                      <a:pt x="50" y="842"/>
                      <a:pt x="70" y="920"/>
                    </a:cubicBezTo>
                    <a:cubicBezTo>
                      <a:pt x="90" y="998"/>
                      <a:pt x="105" y="734"/>
                      <a:pt x="120" y="47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7076160" y="4145760"/>
                <a:ext cx="64080" cy="448200"/>
              </a:xfrm>
              <a:custGeom>
                <a:avLst/>
                <a:gdLst/>
                <a:ahLst/>
                <a:rect l="l" t="t" r="r" b="b"/>
                <a:pathLst>
                  <a:path w="120" h="998">
                    <a:moveTo>
                      <a:pt x="0" y="0"/>
                    </a:moveTo>
                    <a:cubicBezTo>
                      <a:pt x="25" y="421"/>
                      <a:pt x="50" y="842"/>
                      <a:pt x="70" y="920"/>
                    </a:cubicBezTo>
                    <a:cubicBezTo>
                      <a:pt x="90" y="998"/>
                      <a:pt x="105" y="734"/>
                      <a:pt x="120" y="47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140600" y="4399920"/>
                <a:ext cx="36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7129080" y="2954880"/>
                <a:ext cx="9360" cy="6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5373000" y="3216600"/>
                <a:ext cx="28440" cy="6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427000" y="3977640"/>
                <a:ext cx="34920" cy="8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4616280" y="3624480"/>
              <a:ext cx="1034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75600" y="4331520"/>
              <a:ext cx="11160" cy="1075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329880" y="2206800"/>
              <a:ext cx="0" cy="674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85880" y="3793320"/>
              <a:ext cx="12913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708080" y="3839760"/>
              <a:ext cx="1257120" cy="61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14800" y="2106000"/>
              <a:ext cx="0" cy="3166560"/>
            </a:xfrm>
            <a:prstGeom prst="line">
              <a:avLst/>
            </a:prstGeom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24200" y="2070000"/>
              <a:ext cx="115920" cy="3189240"/>
            </a:xfrm>
            <a:custGeom>
              <a:avLst/>
              <a:gdLst/>
              <a:ahLst/>
              <a:rect l="l" t="t" r="r" b="b"/>
              <a:pathLst>
                <a:path w="123" h="1520">
                  <a:moveTo>
                    <a:pt x="0" y="1520"/>
                  </a:moveTo>
                  <a:cubicBezTo>
                    <a:pt x="58" y="1296"/>
                    <a:pt x="117" y="1073"/>
                    <a:pt x="120" y="820"/>
                  </a:cubicBezTo>
                  <a:cubicBezTo>
                    <a:pt x="123" y="567"/>
                    <a:pt x="71" y="283"/>
                    <a:pt x="20" y="0"/>
                  </a:cubicBezTo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46920" y="2081520"/>
              <a:ext cx="195840" cy="3189240"/>
            </a:xfrm>
            <a:custGeom>
              <a:avLst/>
              <a:gdLst/>
              <a:ahLst/>
              <a:rect l="l" t="t" r="r" b="b"/>
              <a:pathLst>
                <a:path w="123" h="1520">
                  <a:moveTo>
                    <a:pt x="0" y="1520"/>
                  </a:moveTo>
                  <a:cubicBezTo>
                    <a:pt x="58" y="1296"/>
                    <a:pt x="117" y="1073"/>
                    <a:pt x="120" y="820"/>
                  </a:cubicBezTo>
                  <a:cubicBezTo>
                    <a:pt x="123" y="567"/>
                    <a:pt x="71" y="283"/>
                    <a:pt x="20" y="0"/>
                  </a:cubicBezTo>
                </a:path>
              </a:pathLst>
            </a:custGeom>
            <a:noFill/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04080" y="4516200"/>
              <a:ext cx="1291320" cy="6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upi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78440" y="1955520"/>
              <a:ext cx="149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9000" bIns="9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78440" y="2847240"/>
              <a:ext cx="1028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atorial Pl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7800" y="1828800"/>
              <a:ext cx="711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06920" y="3409920"/>
              <a:ext cx="78084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s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68400" y="3657600"/>
              <a:ext cx="69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57440" y="3642840"/>
              <a:ext cx="956520" cy="1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733640" y="2068200"/>
              <a:ext cx="422280" cy="592200"/>
              <a:chOff x="4733640" y="2068200"/>
              <a:chExt cx="422280" cy="5922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4733640" y="2068200"/>
                <a:ext cx="242640" cy="327960"/>
                <a:chOff x="4733640" y="2068200"/>
                <a:chExt cx="242640" cy="327960"/>
              </a:xfrm>
            </p:grpSpPr>
            <p:sp>
              <p:nvSpPr>
                <p:cNvPr id="305" name=""/>
                <p:cNvSpPr/>
                <p:nvPr/>
              </p:nvSpPr>
              <p:spPr>
                <a:xfrm rot="19800000">
                  <a:off x="4775400" y="2072520"/>
                  <a:ext cx="68400" cy="18612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9800000">
                  <a:off x="4865400" y="2204640"/>
                  <a:ext cx="68400" cy="18648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913640" y="2332800"/>
                <a:ext cx="242280" cy="327600"/>
                <a:chOff x="4913640" y="2332800"/>
                <a:chExt cx="242280" cy="327600"/>
              </a:xfrm>
            </p:grpSpPr>
            <p:sp>
              <p:nvSpPr>
                <p:cNvPr id="308" name=""/>
                <p:cNvSpPr/>
                <p:nvPr/>
              </p:nvSpPr>
              <p:spPr>
                <a:xfrm rot="19800000">
                  <a:off x="4955400" y="2337120"/>
                  <a:ext cx="68040" cy="18612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19800000">
                  <a:off x="5045400" y="2469240"/>
                  <a:ext cx="68040" cy="18648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0" name=""/>
            <p:cNvGrpSpPr/>
            <p:nvPr/>
          </p:nvGrpSpPr>
          <p:grpSpPr>
            <a:xfrm>
              <a:off x="4674240" y="4686480"/>
              <a:ext cx="452520" cy="576000"/>
              <a:chOff x="4674240" y="4686480"/>
              <a:chExt cx="452520" cy="57600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4861080" y="4686480"/>
                <a:ext cx="265680" cy="316800"/>
                <a:chOff x="4861080" y="4686480"/>
                <a:chExt cx="265680" cy="316800"/>
              </a:xfrm>
            </p:grpSpPr>
            <p:sp>
              <p:nvSpPr>
                <p:cNvPr id="312" name=""/>
                <p:cNvSpPr/>
                <p:nvPr/>
              </p:nvSpPr>
              <p:spPr>
                <a:xfrm rot="2400000">
                  <a:off x="5006160" y="4686480"/>
                  <a:ext cx="68400" cy="18612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2400000">
                  <a:off x="4912920" y="4816440"/>
                  <a:ext cx="68400" cy="18648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674240" y="4946400"/>
                <a:ext cx="265320" cy="316080"/>
                <a:chOff x="4674240" y="4946400"/>
                <a:chExt cx="265320" cy="316080"/>
              </a:xfrm>
            </p:grpSpPr>
            <p:sp>
              <p:nvSpPr>
                <p:cNvPr id="315" name=""/>
                <p:cNvSpPr/>
                <p:nvPr/>
              </p:nvSpPr>
              <p:spPr>
                <a:xfrm rot="2400000">
                  <a:off x="4819320" y="4946400"/>
                  <a:ext cx="68040" cy="18612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2400000">
                  <a:off x="4726080" y="5076000"/>
                  <a:ext cx="68040" cy="18648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6927840" y="2063160"/>
              <a:ext cx="161280" cy="665280"/>
              <a:chOff x="6927840" y="2063160"/>
              <a:chExt cx="161280" cy="66528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6927840" y="2063160"/>
                <a:ext cx="110160" cy="349920"/>
                <a:chOff x="6927840" y="2063160"/>
                <a:chExt cx="110160" cy="349920"/>
              </a:xfrm>
            </p:grpSpPr>
            <p:sp>
              <p:nvSpPr>
                <p:cNvPr id="319" name=""/>
                <p:cNvSpPr/>
                <p:nvPr/>
              </p:nvSpPr>
              <p:spPr>
                <a:xfrm rot="21300000">
                  <a:off x="6935760" y="2065680"/>
                  <a:ext cx="68400" cy="18612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21300000">
                  <a:off x="6961680" y="2223720"/>
                  <a:ext cx="68400" cy="18648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9320" y="2379240"/>
                <a:ext cx="109800" cy="349200"/>
                <a:chOff x="6979320" y="2379240"/>
                <a:chExt cx="109800" cy="349200"/>
              </a:xfrm>
            </p:grpSpPr>
            <p:sp>
              <p:nvSpPr>
                <p:cNvPr id="322" name=""/>
                <p:cNvSpPr/>
                <p:nvPr/>
              </p:nvSpPr>
              <p:spPr>
                <a:xfrm rot="21300000">
                  <a:off x="6987240" y="2381400"/>
                  <a:ext cx="68040" cy="18612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21300000">
                  <a:off x="7013160" y="2539080"/>
                  <a:ext cx="68040" cy="18648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6900120" y="4614480"/>
              <a:ext cx="204120" cy="669240"/>
              <a:chOff x="6900120" y="4614480"/>
              <a:chExt cx="204120" cy="66924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959880" y="4614480"/>
                <a:ext cx="144360" cy="355320"/>
                <a:chOff x="6959880" y="4614480"/>
                <a:chExt cx="144360" cy="355320"/>
              </a:xfrm>
            </p:grpSpPr>
            <p:sp>
              <p:nvSpPr>
                <p:cNvPr id="326" name=""/>
                <p:cNvSpPr/>
                <p:nvPr/>
              </p:nvSpPr>
              <p:spPr>
                <a:xfrm rot="900000">
                  <a:off x="7012440" y="4619880"/>
                  <a:ext cx="68400" cy="18612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900000">
                  <a:off x="6982560" y="4777200"/>
                  <a:ext cx="68400" cy="18648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900120" y="4928760"/>
                <a:ext cx="144000" cy="354960"/>
                <a:chOff x="6900120" y="4928760"/>
                <a:chExt cx="144000" cy="354960"/>
              </a:xfrm>
            </p:grpSpPr>
            <p:sp>
              <p:nvSpPr>
                <p:cNvPr id="329" name=""/>
                <p:cNvSpPr/>
                <p:nvPr/>
              </p:nvSpPr>
              <p:spPr>
                <a:xfrm rot="900000">
                  <a:off x="6952680" y="4934160"/>
                  <a:ext cx="68040" cy="18612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900000">
                  <a:off x="6922800" y="5091480"/>
                  <a:ext cx="68040" cy="18648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1" name=""/>
            <p:cNvSpPr/>
            <p:nvPr/>
          </p:nvSpPr>
          <p:spPr>
            <a:xfrm>
              <a:off x="4495320" y="5080320"/>
              <a:ext cx="323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68720" y="5118480"/>
              <a:ext cx="323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39960" y="1962000"/>
              <a:ext cx="323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87800" y="1911240"/>
              <a:ext cx="323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37920" y="2724120"/>
              <a:ext cx="361800" cy="1879200"/>
            </a:xfrm>
            <a:custGeom>
              <a:avLst/>
              <a:gdLst/>
              <a:ahLst/>
              <a:rect l="l" t="t" r="r" b="b"/>
              <a:pathLst>
                <a:path w="473" h="2614">
                  <a:moveTo>
                    <a:pt x="11" y="0"/>
                  </a:moveTo>
                  <a:cubicBezTo>
                    <a:pt x="157" y="318"/>
                    <a:pt x="303" y="636"/>
                    <a:pt x="379" y="863"/>
                  </a:cubicBezTo>
                  <a:cubicBezTo>
                    <a:pt x="455" y="1090"/>
                    <a:pt x="465" y="1204"/>
                    <a:pt x="469" y="1365"/>
                  </a:cubicBezTo>
                  <a:cubicBezTo>
                    <a:pt x="473" y="1526"/>
                    <a:pt x="446" y="1665"/>
                    <a:pt x="401" y="1830"/>
                  </a:cubicBezTo>
                  <a:cubicBezTo>
                    <a:pt x="356" y="1995"/>
                    <a:pt x="263" y="2229"/>
                    <a:pt x="199" y="2355"/>
                  </a:cubicBezTo>
                  <a:cubicBezTo>
                    <a:pt x="135" y="2481"/>
                    <a:pt x="38" y="2562"/>
                    <a:pt x="19" y="2588"/>
                  </a:cubicBezTo>
                  <a:cubicBezTo>
                    <a:pt x="0" y="2614"/>
                    <a:pt x="43" y="2563"/>
                    <a:pt x="86" y="25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7162920" y="1676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7091280" y="2050920"/>
                <a:ext cx="287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76040" y="385920"/>
            <a:ext cx="71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Schematic of Flow 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17400" y="4800600"/>
            <a:ext cx="6182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MC (direct simulation Monte Carlo) Metho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 rarefied gas dynamic applications on 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ymetric flow; spherical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brational and rotational energy exchang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red and microwave radi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hase gas/particle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419720" cy="393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4840" y="990720"/>
            <a:ext cx="4799160" cy="36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gnetic Fiel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computed 3D MHD model for Io located at the plasma torus equator (Combi 199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ion mass loading and no intrinsic field for 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d free parameters for best agreement with Galileo flyby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get magnetic field at different torus latitudes by r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eld increases (~15%) upstream and decreases (~25%) down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057400" y="3254400"/>
            <a:ext cx="50086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1" descr=""/>
          <p:cNvPicPr/>
          <p:nvPr/>
        </p:nvPicPr>
        <p:blipFill>
          <a:blip r:embed="rId1"/>
          <a:stretch/>
        </p:blipFill>
        <p:spPr>
          <a:xfrm>
            <a:off x="689040" y="0"/>
            <a:ext cx="776448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Magnetic_Moment" descr=""/>
          <p:cNvPicPr/>
          <p:nvPr/>
        </p:nvPicPr>
        <p:blipFill>
          <a:blip r:embed="rId1"/>
          <a:stretch/>
        </p:blipFill>
        <p:spPr>
          <a:xfrm>
            <a:off x="993600" y="609480"/>
            <a:ext cx="715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canic Atmospher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computed independent volcanoes (Zhang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“template” volcanic types – Large (Pele) and Small (Promethe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3 volcanoes accounted for on 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0.1% O concentration (by number) based on equilibrium vent species’ concentrations computed by Zolotov and Fegley (199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sma heated with energy flux of 5 mW/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867564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387680" cy="39783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limation Atmospher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computed 2D steady state sublimation atmosphere (Wong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um model – has limited applicability at high altitudes but it is the bes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species model, we use just the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 data since they are do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e model for Io in sunlight (not eclip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photoreactions, plasma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itudinal dependence added using (Strobel and Wolven) :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143000" y="5410080"/>
                <a:ext cx="3048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l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uat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le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4800600" y="5029200"/>
            <a:ext cx="396252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umber density profile as viewed from earth (Y = 300km).  Notice the latitudinal variation and the superposition of the plu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47960" y="11426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plit into two independent parts:  Excitation and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i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 input and move along field lines through the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asionally electrons collide with the neutral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of excited oxygen is stored for use in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ited oxygen are given initial velocities based on local temperature and bulk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xygen moves until it either collides or e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52280" y="1295280"/>
            <a:ext cx="4419360" cy="5257440"/>
            <a:chOff x="152280" y="1295280"/>
            <a:chExt cx="4419360" cy="5257440"/>
          </a:xfrm>
        </p:grpSpPr>
        <p:grpSp>
          <p:nvGrpSpPr>
            <p:cNvPr id="354" name=""/>
            <p:cNvGrpSpPr/>
            <p:nvPr/>
          </p:nvGrpSpPr>
          <p:grpSpPr>
            <a:xfrm>
              <a:off x="2079000" y="3434400"/>
              <a:ext cx="2186280" cy="1682280"/>
              <a:chOff x="2079000" y="3434400"/>
              <a:chExt cx="2186280" cy="168228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2079000" y="4575600"/>
                <a:ext cx="510480" cy="28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150280" y="4821840"/>
                <a:ext cx="92952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xcitation</a:t>
                </a:r>
                <a:r>
                  <a:rPr b="0" lang="en-US" sz="900" spc="-1" strike="noStrike" baseline="30000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85360" y="4329720"/>
                <a:ext cx="92952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D oxygen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2742840" y="3683520"/>
                <a:ext cx="920880" cy="734760"/>
                <a:chOff x="2742840" y="3683520"/>
                <a:chExt cx="920880" cy="734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742840" y="3683520"/>
                  <a:ext cx="868320" cy="734760"/>
                </a:xfrm>
                <a:custGeom>
                  <a:avLst/>
                  <a:gdLst/>
                  <a:ahLst/>
                  <a:rect l="l" t="t" r="r" b="b"/>
                  <a:pathLst>
                    <a:path w="1275" h="1120">
                      <a:moveTo>
                        <a:pt x="0" y="1120"/>
                      </a:moveTo>
                      <a:cubicBezTo>
                        <a:pt x="135" y="892"/>
                        <a:pt x="270" y="665"/>
                        <a:pt x="420" y="490"/>
                      </a:cubicBezTo>
                      <a:cubicBezTo>
                        <a:pt x="570" y="315"/>
                        <a:pt x="758" y="140"/>
                        <a:pt x="900" y="70"/>
                      </a:cubicBezTo>
                      <a:cubicBezTo>
                        <a:pt x="1042" y="0"/>
                        <a:pt x="1158" y="35"/>
                        <a:pt x="1275" y="7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601080" y="3709440"/>
                  <a:ext cx="62640" cy="60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3253680" y="3552480"/>
                <a:ext cx="520920" cy="45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080160" y="3886920"/>
                <a:ext cx="1185120" cy="28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e-excitatio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66000" y="3434400"/>
                <a:ext cx="97200" cy="93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202560" y="3532680"/>
                <a:ext cx="204120" cy="40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26800" y="4074120"/>
                <a:ext cx="62640" cy="601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690920" y="5461200"/>
              <a:ext cx="408240" cy="15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10320" y="5637600"/>
              <a:ext cx="18698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o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 su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90920" y="4714200"/>
              <a:ext cx="40824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90920" y="5087880"/>
              <a:ext cx="408240" cy="37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00640" y="5146200"/>
              <a:ext cx="61560" cy="6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90920" y="3591360"/>
              <a:ext cx="408240" cy="37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90920" y="3966480"/>
              <a:ext cx="40824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4760" y="4074120"/>
              <a:ext cx="96840" cy="92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74880" y="4113360"/>
              <a:ext cx="61560" cy="6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35360" y="3876840"/>
              <a:ext cx="3430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5800" y="2469960"/>
              <a:ext cx="1094760" cy="2971440"/>
            </a:xfrm>
            <a:custGeom>
              <a:avLst/>
              <a:gdLst/>
              <a:ahLst/>
              <a:rect l="l" t="t" r="r" b="b"/>
              <a:pathLst>
                <a:path w="1605" h="4530">
                  <a:moveTo>
                    <a:pt x="1605" y="0"/>
                  </a:moveTo>
                  <a:cubicBezTo>
                    <a:pt x="1593" y="495"/>
                    <a:pt x="1582" y="990"/>
                    <a:pt x="1530" y="1500"/>
                  </a:cubicBezTo>
                  <a:cubicBezTo>
                    <a:pt x="1478" y="2010"/>
                    <a:pt x="1397" y="2660"/>
                    <a:pt x="1290" y="3060"/>
                  </a:cubicBezTo>
                  <a:cubicBezTo>
                    <a:pt x="1183" y="3460"/>
                    <a:pt x="1100" y="3655"/>
                    <a:pt x="885" y="3900"/>
                  </a:cubicBezTo>
                  <a:cubicBezTo>
                    <a:pt x="670" y="4145"/>
                    <a:pt x="335" y="4337"/>
                    <a:pt x="0" y="45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51000" y="5451480"/>
              <a:ext cx="134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280" y="4492080"/>
              <a:ext cx="136908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 Neutral den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73760" y="2923560"/>
              <a:ext cx="143640" cy="138600"/>
              <a:chOff x="473760" y="2923560"/>
              <a:chExt cx="143640" cy="138600"/>
            </a:xfrm>
          </p:grpSpPr>
          <p:sp>
            <p:nvSpPr>
              <p:cNvPr id="380" name=""/>
              <p:cNvSpPr/>
              <p:nvPr/>
            </p:nvSpPr>
            <p:spPr>
              <a:xfrm>
                <a:off x="555120" y="3002040"/>
                <a:ext cx="62280" cy="601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3760" y="2962440"/>
                <a:ext cx="96840" cy="93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4440" y="2923560"/>
                <a:ext cx="62280" cy="601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15520" y="3207960"/>
              <a:ext cx="61560" cy="6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8160" y="2853720"/>
              <a:ext cx="940680" cy="55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 S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 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1312200" y="3778560"/>
              <a:ext cx="388080" cy="45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400000">
              <a:off x="1438920" y="3801960"/>
              <a:ext cx="162360" cy="438840"/>
            </a:xfrm>
            <a:custGeom>
              <a:avLst/>
              <a:gdLst/>
              <a:ahLst/>
              <a:rect l="l" t="t" r="r" b="b"/>
              <a:pathLst>
                <a:path w="300" h="484">
                  <a:moveTo>
                    <a:pt x="0" y="22"/>
                  </a:moveTo>
                  <a:cubicBezTo>
                    <a:pt x="84" y="11"/>
                    <a:pt x="168" y="0"/>
                    <a:pt x="210" y="22"/>
                  </a:cubicBezTo>
                  <a:cubicBezTo>
                    <a:pt x="252" y="44"/>
                    <a:pt x="262" y="120"/>
                    <a:pt x="255" y="157"/>
                  </a:cubicBezTo>
                  <a:cubicBezTo>
                    <a:pt x="248" y="194"/>
                    <a:pt x="193" y="209"/>
                    <a:pt x="165" y="247"/>
                  </a:cubicBezTo>
                  <a:cubicBezTo>
                    <a:pt x="137" y="285"/>
                    <a:pt x="90" y="345"/>
                    <a:pt x="90" y="382"/>
                  </a:cubicBezTo>
                  <a:cubicBezTo>
                    <a:pt x="90" y="419"/>
                    <a:pt x="130" y="460"/>
                    <a:pt x="165" y="472"/>
                  </a:cubicBezTo>
                  <a:cubicBezTo>
                    <a:pt x="200" y="484"/>
                    <a:pt x="250" y="470"/>
                    <a:pt x="300" y="45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1880" y="3463920"/>
              <a:ext cx="970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ontaneous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Emiss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40960" y="4250520"/>
              <a:ext cx="63720" cy="60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04760" y="4230720"/>
              <a:ext cx="572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690920" y="1920240"/>
              <a:ext cx="601920" cy="1670760"/>
              <a:chOff x="1690920" y="1920240"/>
              <a:chExt cx="601920" cy="1670760"/>
            </a:xfrm>
          </p:grpSpPr>
          <p:sp>
            <p:nvSpPr>
              <p:cNvPr id="391" name=""/>
              <p:cNvSpPr/>
              <p:nvPr/>
            </p:nvSpPr>
            <p:spPr>
              <a:xfrm>
                <a:off x="1690920" y="2470680"/>
                <a:ext cx="408240" cy="37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90920" y="2844360"/>
                <a:ext cx="408240" cy="37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90920" y="3217680"/>
                <a:ext cx="408240" cy="37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1772280" y="1920240"/>
                <a:ext cx="520560" cy="1031760"/>
                <a:chOff x="1772280" y="1920240"/>
                <a:chExt cx="520560" cy="10317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772280" y="1920240"/>
                  <a:ext cx="489960" cy="56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772280" y="2224800"/>
                  <a:ext cx="52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1762200" y="3385080"/>
                <a:ext cx="97200" cy="93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72280" y="3453840"/>
                <a:ext cx="62640" cy="601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1843560" y="3080160"/>
                <a:ext cx="9180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1874880" y="2863440"/>
              <a:ext cx="18698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74880" y="3444480"/>
              <a:ext cx="204120" cy="40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35360" y="3632040"/>
              <a:ext cx="63360" cy="601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32040" y="2453760"/>
              <a:ext cx="868320" cy="734400"/>
            </a:xfrm>
            <a:custGeom>
              <a:avLst/>
              <a:gdLst/>
              <a:ahLst/>
              <a:rect l="l" t="t" r="r" b="b"/>
              <a:pathLst>
                <a:path w="1275" h="1120">
                  <a:moveTo>
                    <a:pt x="0" y="1120"/>
                  </a:moveTo>
                  <a:cubicBezTo>
                    <a:pt x="135" y="892"/>
                    <a:pt x="270" y="665"/>
                    <a:pt x="420" y="490"/>
                  </a:cubicBezTo>
                  <a:cubicBezTo>
                    <a:pt x="570" y="315"/>
                    <a:pt x="758" y="140"/>
                    <a:pt x="900" y="70"/>
                  </a:cubicBezTo>
                  <a:cubicBezTo>
                    <a:pt x="1042" y="0"/>
                    <a:pt x="1158" y="35"/>
                    <a:pt x="1275" y="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90920" y="1732680"/>
              <a:ext cx="40824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8120" y="1295280"/>
              <a:ext cx="187128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  </a:t>
              </a:r>
              <a:r>
                <a:rPr b="0" lang="en-US" sz="900" spc="-1" strike="noStrike" baseline="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 altitude of 1500k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43920" y="1766880"/>
              <a:ext cx="18698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z=1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98400" y="1732680"/>
              <a:ext cx="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05920" y="2853720"/>
              <a:ext cx="63720" cy="6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92120" y="2548440"/>
              <a:ext cx="63720" cy="6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91000" y="2480040"/>
              <a:ext cx="63360" cy="6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95440" y="2450520"/>
              <a:ext cx="786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llist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047320" y="3355920"/>
              <a:ext cx="51228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75280" y="3110040"/>
              <a:ext cx="929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 oxygen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3622320" y="1653840"/>
              <a:ext cx="9720" cy="7866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rot="20400000">
              <a:off x="3544560" y="1870920"/>
              <a:ext cx="192240" cy="591840"/>
            </a:xfrm>
            <a:custGeom>
              <a:avLst/>
              <a:gdLst/>
              <a:ahLst/>
              <a:rect l="l" t="t" r="r" b="b"/>
              <a:pathLst>
                <a:path w="300" h="484">
                  <a:moveTo>
                    <a:pt x="0" y="22"/>
                  </a:moveTo>
                  <a:cubicBezTo>
                    <a:pt x="84" y="11"/>
                    <a:pt x="168" y="0"/>
                    <a:pt x="210" y="22"/>
                  </a:cubicBezTo>
                  <a:cubicBezTo>
                    <a:pt x="252" y="44"/>
                    <a:pt x="262" y="120"/>
                    <a:pt x="255" y="157"/>
                  </a:cubicBezTo>
                  <a:cubicBezTo>
                    <a:pt x="248" y="194"/>
                    <a:pt x="193" y="209"/>
                    <a:pt x="165" y="247"/>
                  </a:cubicBezTo>
                  <a:cubicBezTo>
                    <a:pt x="137" y="285"/>
                    <a:pt x="90" y="345"/>
                    <a:pt x="90" y="382"/>
                  </a:cubicBezTo>
                  <a:cubicBezTo>
                    <a:pt x="90" y="419"/>
                    <a:pt x="130" y="460"/>
                    <a:pt x="165" y="472"/>
                  </a:cubicBezTo>
                  <a:cubicBezTo>
                    <a:pt x="200" y="484"/>
                    <a:pt x="250" y="470"/>
                    <a:pt x="300" y="45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00720" y="1840320"/>
              <a:ext cx="970920" cy="4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[OI] 630 n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miss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87240" y="2784960"/>
              <a:ext cx="112320" cy="630000"/>
            </a:xfrm>
            <a:prstGeom prst="downArrow">
              <a:avLst>
                <a:gd name="adj1" fmla="val 50000"/>
                <a:gd name="adj2" fmla="val 1402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26920" y="2783520"/>
              <a:ext cx="964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avitational For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95040" y="4054680"/>
              <a:ext cx="61560" cy="6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1740960" y="4516560"/>
              <a:ext cx="145440" cy="138600"/>
              <a:chOff x="1740960" y="4516560"/>
              <a:chExt cx="145440" cy="138600"/>
            </a:xfrm>
          </p:grpSpPr>
          <p:sp>
            <p:nvSpPr>
              <p:cNvPr id="421" name=""/>
              <p:cNvSpPr/>
              <p:nvPr/>
            </p:nvSpPr>
            <p:spPr>
              <a:xfrm>
                <a:off x="1823400" y="4595040"/>
                <a:ext cx="63000" cy="601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740960" y="4555440"/>
                <a:ext cx="98280" cy="93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782000" y="4516560"/>
                <a:ext cx="63000" cy="601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710720" y="5077800"/>
              <a:ext cx="96840" cy="92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802520" y="4320360"/>
              <a:ext cx="15228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1976760" y="3710520"/>
              <a:ext cx="6012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72640" y="5136840"/>
              <a:ext cx="61560" cy="6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41680" y="4516560"/>
              <a:ext cx="61560" cy="6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254400" y="3749400"/>
              <a:ext cx="2988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316320" y="3561840"/>
              <a:ext cx="7992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90920" y="4340160"/>
              <a:ext cx="40824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42840" y="3424680"/>
              <a:ext cx="63720" cy="6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31160" y="3287880"/>
              <a:ext cx="63360" cy="60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1806120" y="4320360"/>
              <a:ext cx="17424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79240" y="5961960"/>
              <a:ext cx="22478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827440" y="5952600"/>
              <a:ext cx="13089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95320" y="5981760"/>
              <a:ext cx="18712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citation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91200" y="5972400"/>
              <a:ext cx="18694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mission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09240" y="5456520"/>
              <a:ext cx="9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31200" y="2484720"/>
              <a:ext cx="655920" cy="2955240"/>
            </a:xfrm>
            <a:custGeom>
              <a:avLst/>
              <a:gdLst/>
              <a:ahLst/>
              <a:rect l="l" t="t" r="r" b="b"/>
              <a:pathLst>
                <a:path w="661" h="3718">
                  <a:moveTo>
                    <a:pt x="8" y="0"/>
                  </a:moveTo>
                  <a:cubicBezTo>
                    <a:pt x="4" y="269"/>
                    <a:pt x="0" y="539"/>
                    <a:pt x="25" y="871"/>
                  </a:cubicBezTo>
                  <a:cubicBezTo>
                    <a:pt x="50" y="1203"/>
                    <a:pt x="53" y="1519"/>
                    <a:pt x="159" y="1993"/>
                  </a:cubicBezTo>
                  <a:cubicBezTo>
                    <a:pt x="265" y="2467"/>
                    <a:pt x="577" y="3431"/>
                    <a:pt x="661" y="37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10080" y="5167800"/>
              <a:ext cx="130932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gnet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el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(upstream sid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11600" y="4283280"/>
              <a:ext cx="5824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47000" y="4364640"/>
              <a:ext cx="35316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725840" y="4537440"/>
              <a:ext cx="234360" cy="383400"/>
              <a:chOff x="1725840" y="4537440"/>
              <a:chExt cx="234360" cy="3834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1725840" y="4537440"/>
                <a:ext cx="234360" cy="383400"/>
                <a:chOff x="1725840" y="4537440"/>
                <a:chExt cx="234360" cy="38340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1725840" y="4537440"/>
                  <a:ext cx="172800" cy="259560"/>
                  <a:chOff x="1725840" y="4537440"/>
                  <a:chExt cx="172800" cy="25956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1725840" y="4537440"/>
                    <a:ext cx="131040" cy="25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901">
                        <a:moveTo>
                          <a:pt x="0" y="0"/>
                        </a:moveTo>
                        <a:cubicBezTo>
                          <a:pt x="116" y="39"/>
                          <a:pt x="102" y="1"/>
                          <a:pt x="60" y="105"/>
                        </a:cubicBezTo>
                        <a:cubicBezTo>
                          <a:pt x="75" y="110"/>
                          <a:pt x="99" y="105"/>
                          <a:pt x="105" y="120"/>
                        </a:cubicBezTo>
                        <a:cubicBezTo>
                          <a:pt x="143" y="214"/>
                          <a:pt x="27" y="159"/>
                          <a:pt x="135" y="195"/>
                        </a:cubicBezTo>
                        <a:cubicBezTo>
                          <a:pt x="140" y="210"/>
                          <a:pt x="157" y="226"/>
                          <a:pt x="150" y="240"/>
                        </a:cubicBezTo>
                        <a:cubicBezTo>
                          <a:pt x="133" y="274"/>
                          <a:pt x="47" y="236"/>
                          <a:pt x="150" y="270"/>
                        </a:cubicBezTo>
                        <a:cubicBezTo>
                          <a:pt x="160" y="285"/>
                          <a:pt x="180" y="297"/>
                          <a:pt x="180" y="315"/>
                        </a:cubicBezTo>
                        <a:cubicBezTo>
                          <a:pt x="180" y="388"/>
                          <a:pt x="85" y="344"/>
                          <a:pt x="210" y="375"/>
                        </a:cubicBezTo>
                        <a:cubicBezTo>
                          <a:pt x="200" y="395"/>
                          <a:pt x="168" y="416"/>
                          <a:pt x="180" y="435"/>
                        </a:cubicBezTo>
                        <a:cubicBezTo>
                          <a:pt x="198" y="461"/>
                          <a:pt x="270" y="465"/>
                          <a:pt x="270" y="465"/>
                        </a:cubicBezTo>
                        <a:cubicBezTo>
                          <a:pt x="265" y="480"/>
                          <a:pt x="265" y="498"/>
                          <a:pt x="255" y="510"/>
                        </a:cubicBezTo>
                        <a:cubicBezTo>
                          <a:pt x="244" y="524"/>
                          <a:pt x="208" y="522"/>
                          <a:pt x="210" y="540"/>
                        </a:cubicBezTo>
                        <a:cubicBezTo>
                          <a:pt x="214" y="576"/>
                          <a:pt x="270" y="630"/>
                          <a:pt x="270" y="630"/>
                        </a:cubicBezTo>
                        <a:cubicBezTo>
                          <a:pt x="270" y="630"/>
                          <a:pt x="310" y="640"/>
                          <a:pt x="330" y="645"/>
                        </a:cubicBezTo>
                        <a:cubicBezTo>
                          <a:pt x="340" y="660"/>
                          <a:pt x="367" y="673"/>
                          <a:pt x="360" y="690"/>
                        </a:cubicBezTo>
                        <a:cubicBezTo>
                          <a:pt x="354" y="704"/>
                          <a:pt x="230" y="743"/>
                          <a:pt x="345" y="705"/>
                        </a:cubicBezTo>
                        <a:cubicBezTo>
                          <a:pt x="351" y="724"/>
                          <a:pt x="383" y="901"/>
                          <a:pt x="330" y="795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160" rIns="7416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1765080" y="4659840"/>
                    <a:ext cx="133560" cy="13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160" rIns="7416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1787400" y="4661280"/>
                  <a:ext cx="172800" cy="259560"/>
                  <a:chOff x="1787400" y="4661280"/>
                  <a:chExt cx="172800" cy="25956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1787400" y="4661280"/>
                    <a:ext cx="131040" cy="25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901">
                        <a:moveTo>
                          <a:pt x="0" y="0"/>
                        </a:moveTo>
                        <a:cubicBezTo>
                          <a:pt x="116" y="39"/>
                          <a:pt x="102" y="1"/>
                          <a:pt x="60" y="105"/>
                        </a:cubicBezTo>
                        <a:cubicBezTo>
                          <a:pt x="75" y="110"/>
                          <a:pt x="99" y="105"/>
                          <a:pt x="105" y="120"/>
                        </a:cubicBezTo>
                        <a:cubicBezTo>
                          <a:pt x="143" y="214"/>
                          <a:pt x="27" y="159"/>
                          <a:pt x="135" y="195"/>
                        </a:cubicBezTo>
                        <a:cubicBezTo>
                          <a:pt x="140" y="210"/>
                          <a:pt x="157" y="226"/>
                          <a:pt x="150" y="240"/>
                        </a:cubicBezTo>
                        <a:cubicBezTo>
                          <a:pt x="133" y="274"/>
                          <a:pt x="47" y="236"/>
                          <a:pt x="150" y="270"/>
                        </a:cubicBezTo>
                        <a:cubicBezTo>
                          <a:pt x="160" y="285"/>
                          <a:pt x="180" y="297"/>
                          <a:pt x="180" y="315"/>
                        </a:cubicBezTo>
                        <a:cubicBezTo>
                          <a:pt x="180" y="388"/>
                          <a:pt x="85" y="344"/>
                          <a:pt x="210" y="375"/>
                        </a:cubicBezTo>
                        <a:cubicBezTo>
                          <a:pt x="200" y="395"/>
                          <a:pt x="168" y="416"/>
                          <a:pt x="180" y="435"/>
                        </a:cubicBezTo>
                        <a:cubicBezTo>
                          <a:pt x="198" y="461"/>
                          <a:pt x="270" y="465"/>
                          <a:pt x="270" y="465"/>
                        </a:cubicBezTo>
                        <a:cubicBezTo>
                          <a:pt x="265" y="480"/>
                          <a:pt x="265" y="498"/>
                          <a:pt x="255" y="510"/>
                        </a:cubicBezTo>
                        <a:cubicBezTo>
                          <a:pt x="244" y="524"/>
                          <a:pt x="208" y="522"/>
                          <a:pt x="210" y="540"/>
                        </a:cubicBezTo>
                        <a:cubicBezTo>
                          <a:pt x="214" y="576"/>
                          <a:pt x="270" y="630"/>
                          <a:pt x="270" y="630"/>
                        </a:cubicBezTo>
                        <a:cubicBezTo>
                          <a:pt x="270" y="630"/>
                          <a:pt x="310" y="640"/>
                          <a:pt x="330" y="645"/>
                        </a:cubicBezTo>
                        <a:cubicBezTo>
                          <a:pt x="340" y="660"/>
                          <a:pt x="367" y="673"/>
                          <a:pt x="360" y="690"/>
                        </a:cubicBezTo>
                        <a:cubicBezTo>
                          <a:pt x="354" y="704"/>
                          <a:pt x="230" y="743"/>
                          <a:pt x="345" y="705"/>
                        </a:cubicBezTo>
                        <a:cubicBezTo>
                          <a:pt x="351" y="724"/>
                          <a:pt x="383" y="901"/>
                          <a:pt x="330" y="795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160" rIns="7416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826640" y="4783680"/>
                    <a:ext cx="133560" cy="13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160" rIns="7416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2" name=""/>
              <p:cNvGrpSpPr/>
              <p:nvPr/>
            </p:nvGrpSpPr>
            <p:grpSpPr>
              <a:xfrm>
                <a:off x="1783800" y="4646880"/>
                <a:ext cx="172800" cy="259560"/>
                <a:chOff x="1783800" y="4646880"/>
                <a:chExt cx="172800" cy="2595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1783800" y="4646880"/>
                  <a:ext cx="131040" cy="259560"/>
                </a:xfrm>
                <a:custGeom>
                  <a:avLst/>
                  <a:gdLst/>
                  <a:ahLst/>
                  <a:rect l="l" t="t" r="r" b="b"/>
                  <a:pathLst>
                    <a:path w="383" h="901">
                      <a:moveTo>
                        <a:pt x="0" y="0"/>
                      </a:moveTo>
                      <a:cubicBezTo>
                        <a:pt x="116" y="39"/>
                        <a:pt x="102" y="1"/>
                        <a:pt x="60" y="105"/>
                      </a:cubicBezTo>
                      <a:cubicBezTo>
                        <a:pt x="75" y="110"/>
                        <a:pt x="99" y="105"/>
                        <a:pt x="105" y="120"/>
                      </a:cubicBezTo>
                      <a:cubicBezTo>
                        <a:pt x="143" y="214"/>
                        <a:pt x="27" y="159"/>
                        <a:pt x="135" y="195"/>
                      </a:cubicBezTo>
                      <a:cubicBezTo>
                        <a:pt x="140" y="210"/>
                        <a:pt x="157" y="226"/>
                        <a:pt x="150" y="240"/>
                      </a:cubicBezTo>
                      <a:cubicBezTo>
                        <a:pt x="133" y="274"/>
                        <a:pt x="47" y="236"/>
                        <a:pt x="150" y="270"/>
                      </a:cubicBezTo>
                      <a:cubicBezTo>
                        <a:pt x="160" y="285"/>
                        <a:pt x="180" y="297"/>
                        <a:pt x="180" y="315"/>
                      </a:cubicBezTo>
                      <a:cubicBezTo>
                        <a:pt x="180" y="388"/>
                        <a:pt x="85" y="344"/>
                        <a:pt x="210" y="375"/>
                      </a:cubicBezTo>
                      <a:cubicBezTo>
                        <a:pt x="200" y="395"/>
                        <a:pt x="168" y="416"/>
                        <a:pt x="180" y="435"/>
                      </a:cubicBezTo>
                      <a:cubicBezTo>
                        <a:pt x="198" y="461"/>
                        <a:pt x="270" y="465"/>
                        <a:pt x="270" y="465"/>
                      </a:cubicBezTo>
                      <a:cubicBezTo>
                        <a:pt x="265" y="480"/>
                        <a:pt x="265" y="498"/>
                        <a:pt x="255" y="510"/>
                      </a:cubicBezTo>
                      <a:cubicBezTo>
                        <a:pt x="244" y="524"/>
                        <a:pt x="208" y="522"/>
                        <a:pt x="210" y="540"/>
                      </a:cubicBezTo>
                      <a:cubicBezTo>
                        <a:pt x="214" y="576"/>
                        <a:pt x="270" y="630"/>
                        <a:pt x="270" y="630"/>
                      </a:cubicBezTo>
                      <a:cubicBezTo>
                        <a:pt x="270" y="630"/>
                        <a:pt x="310" y="640"/>
                        <a:pt x="330" y="645"/>
                      </a:cubicBezTo>
                      <a:cubicBezTo>
                        <a:pt x="340" y="660"/>
                        <a:pt x="367" y="673"/>
                        <a:pt x="360" y="690"/>
                      </a:cubicBezTo>
                      <a:cubicBezTo>
                        <a:pt x="354" y="704"/>
                        <a:pt x="230" y="743"/>
                        <a:pt x="345" y="705"/>
                      </a:cubicBezTo>
                      <a:cubicBezTo>
                        <a:pt x="351" y="724"/>
                        <a:pt x="383" y="901"/>
                        <a:pt x="330" y="79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823040" y="4769280"/>
                  <a:ext cx="133560" cy="13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5" name=""/>
            <p:cNvSpPr/>
            <p:nvPr/>
          </p:nvSpPr>
          <p:spPr>
            <a:xfrm>
              <a:off x="1838160" y="4725720"/>
              <a:ext cx="5832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95040" y="4684320"/>
              <a:ext cx="204120" cy="40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45080" y="4870440"/>
              <a:ext cx="63720" cy="601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1842480" y="1379160"/>
              <a:ext cx="92880" cy="347040"/>
              <a:chOff x="1842480" y="1379160"/>
              <a:chExt cx="92880" cy="34704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1845000" y="1379160"/>
                <a:ext cx="90360" cy="185400"/>
                <a:chOff x="1845000" y="1379160"/>
                <a:chExt cx="90360" cy="185400"/>
              </a:xfrm>
            </p:grpSpPr>
            <p:sp>
              <p:nvSpPr>
                <p:cNvPr id="460" name=""/>
                <p:cNvSpPr/>
                <p:nvPr/>
              </p:nvSpPr>
              <p:spPr>
                <a:xfrm rot="600000">
                  <a:off x="1854000" y="1384560"/>
                  <a:ext cx="73440" cy="9324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600000">
                  <a:off x="1852200" y="1465560"/>
                  <a:ext cx="73440" cy="9324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1842480" y="1541160"/>
                <a:ext cx="89640" cy="185040"/>
                <a:chOff x="1842480" y="1541160"/>
                <a:chExt cx="89640" cy="185040"/>
              </a:xfrm>
            </p:grpSpPr>
            <p:sp>
              <p:nvSpPr>
                <p:cNvPr id="463" name=""/>
                <p:cNvSpPr/>
                <p:nvPr/>
              </p:nvSpPr>
              <p:spPr>
                <a:xfrm rot="600000">
                  <a:off x="1851120" y="1546560"/>
                  <a:ext cx="73080" cy="9324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600000">
                  <a:off x="1849680" y="1627200"/>
                  <a:ext cx="73080" cy="93240"/>
                </a:xfrm>
                <a:custGeom>
                  <a:avLst/>
                  <a:gdLst/>
                  <a:ahLst/>
                  <a:rect l="l" t="t" r="r" b="b"/>
                  <a:pathLst>
                    <a:path w="284" h="397">
                      <a:moveTo>
                        <a:pt x="34" y="0"/>
                      </a:moveTo>
                      <a:cubicBezTo>
                        <a:pt x="74" y="10"/>
                        <a:pt x="114" y="20"/>
                        <a:pt x="154" y="30"/>
                      </a:cubicBezTo>
                      <a:cubicBezTo>
                        <a:pt x="167" y="33"/>
                        <a:pt x="181" y="37"/>
                        <a:pt x="194" y="40"/>
                      </a:cubicBezTo>
                      <a:cubicBezTo>
                        <a:pt x="207" y="43"/>
                        <a:pt x="234" y="50"/>
                        <a:pt x="234" y="50"/>
                      </a:cubicBezTo>
                      <a:cubicBezTo>
                        <a:pt x="237" y="60"/>
                        <a:pt x="244" y="69"/>
                        <a:pt x="244" y="80"/>
                      </a:cubicBezTo>
                      <a:cubicBezTo>
                        <a:pt x="244" y="176"/>
                        <a:pt x="161" y="177"/>
                        <a:pt x="94" y="210"/>
                      </a:cubicBezTo>
                      <a:cubicBezTo>
                        <a:pt x="67" y="207"/>
                        <a:pt x="39" y="211"/>
                        <a:pt x="14" y="200"/>
                      </a:cubicBezTo>
                      <a:cubicBezTo>
                        <a:pt x="4" y="196"/>
                        <a:pt x="0" y="180"/>
                        <a:pt x="4" y="170"/>
                      </a:cubicBezTo>
                      <a:cubicBezTo>
                        <a:pt x="13" y="148"/>
                        <a:pt x="72" y="142"/>
                        <a:pt x="84" y="140"/>
                      </a:cubicBezTo>
                      <a:cubicBezTo>
                        <a:pt x="127" y="149"/>
                        <a:pt x="171" y="151"/>
                        <a:pt x="214" y="160"/>
                      </a:cubicBezTo>
                      <a:cubicBezTo>
                        <a:pt x="235" y="164"/>
                        <a:pt x="274" y="180"/>
                        <a:pt x="274" y="180"/>
                      </a:cubicBezTo>
                      <a:cubicBezTo>
                        <a:pt x="277" y="190"/>
                        <a:pt x="284" y="199"/>
                        <a:pt x="284" y="210"/>
                      </a:cubicBezTo>
                      <a:cubicBezTo>
                        <a:pt x="284" y="237"/>
                        <a:pt x="283" y="265"/>
                        <a:pt x="274" y="290"/>
                      </a:cubicBezTo>
                      <a:cubicBezTo>
                        <a:pt x="248" y="362"/>
                        <a:pt x="197" y="364"/>
                        <a:pt x="134" y="380"/>
                      </a:cubicBezTo>
                      <a:cubicBezTo>
                        <a:pt x="44" y="369"/>
                        <a:pt x="54" y="397"/>
                        <a:pt x="54" y="3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5" name=""/>
            <p:cNvSpPr/>
            <p:nvPr/>
          </p:nvSpPr>
          <p:spPr>
            <a:xfrm>
              <a:off x="1884600" y="1350720"/>
              <a:ext cx="13320" cy="4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ross section is a measure of the effective area of a target molecule for producing an interaction (collis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interaction types:  Ionization, Dissociation, Attachment, Excitation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cross section for species i colliding with j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5040360" y="1752480"/>
            <a:ext cx="4103640" cy="29084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410080" y="45720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d sphere collision (Bird 19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262160" y="4683240"/>
                <a:ext cx="28065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N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luded Cross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ulation includes electron-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lectron-O interaction cross sections as functions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222800" cy="42228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523880" y="6324480"/>
            <a:ext cx="228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ross s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232160" cy="42321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019920" y="6324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cross s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2" descr=""/>
          <p:cNvPicPr/>
          <p:nvPr/>
        </p:nvPicPr>
        <p:blipFill>
          <a:blip r:embed="rId1"/>
          <a:stretch/>
        </p:blipFill>
        <p:spPr>
          <a:xfrm>
            <a:off x="922320" y="838080"/>
            <a:ext cx="72979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ited oxygen given an initial velocity based on local temperature, bulk velocity and corrected for the electron excitation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emission is given by the Einstein A coefficient (the inverse of A is the mean lifetime of the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I] 630 nm is a ‘forbidden’ line emission – it does not emit through the first-order mode, therefor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30n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5.1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fetime ~ 190 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collision occurs before the oxygen atom emits, then it is assumed to de-excite (without emis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tch observations, the emission events are line-of-sight inte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Basic Flow Features in Simulated P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0680" y="4113360"/>
            <a:ext cx="77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parison of Mach number contours of dayside (left, Ts = 115 K)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ightside (right, Ts = 90 K) Pele type plu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371600"/>
          <a:ext cx="8153280" cy="27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1532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752480" y="1676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ch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0360" y="4968720"/>
            <a:ext cx="800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2 gas erupts from the vent (located at R = 0 km) at a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ch 3, expands, accelerates, until gravity slows it d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canopy shaped shock is formed at an altitude of about 3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re-entry shock is formed for plume on days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31440" y="152568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Canopy sh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105520" y="1905120"/>
            <a:ext cx="3808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286000" y="358092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36600" y="384984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Re-entry sh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17640" y="22114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ay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6280" y="22114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igh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undary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roral Simulation - De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240" y="1240920"/>
            <a:ext cx="38862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lectron energy deposition in Pele and Tvash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deposition in the wake than on the upstream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 deposition is inclined relative to the equator due to electron depletion across 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50292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4191120" y="2922480"/>
            <a:ext cx="4495680" cy="39355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roral Simulation – Emiss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ke bright spot is tilted relative to Io’s eq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e, quenches upstream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bright equatorial “band” seen in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b glow is not present  probably due to Tvashtar and error in latitudinal dependence of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33526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upstream emission du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c mirror effect reflecting ~60% of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 of Pele on the leading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sional quenching reduces low altitude and volcanic 630 nm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metric north/south flux tube depletion results in wake spot tilt – not the magnetic field t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ments to pre-computed volcan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ing Smyth and Wong’s 2004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ing collapse of dayside atmosphere as eclipse prog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162920" cy="5740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22560" y="307800"/>
            <a:ext cx="66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composition of the Computational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6019920"/>
            <a:ext cx="5105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SMC calculated photon emission rate contours for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vibrational bands near the plume co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2840" y="509760"/>
            <a:ext cx="75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SMC Emission Results for Pele Type Plu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0880" y="6324480"/>
                <a:ext cx="1092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ν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4410000" cy="2055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28240" y="5816520"/>
            <a:ext cx="317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rofiles of emission rate alo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mmetry axis and contour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mission rate for     b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3200400" cy="214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404120" y="6324480"/>
                <a:ext cx="2160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80880" y="1270080"/>
                <a:ext cx="800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9840" y="1220760"/>
            <a:ext cx="511164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and emission rates drops one order of magnitude within 2 km. The rapid emission signatures are captured by calculation in region 1 and 2 with very fine spatial and temporal resol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mission from     band re-appears at the sh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46320" y="3098880"/>
                <a:ext cx="29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38080" y="3657600"/>
                <a:ext cx="190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968480" y="3657600"/>
                <a:ext cx="216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1640" y="3651120"/>
                <a:ext cx="2030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167440" y="1066680"/>
            <a:ext cx="397656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conditions at the “Effective” 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2430360"/>
            <a:ext cx="7772400" cy="3214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93840" y="53722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canic t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40520" y="537228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va Lake p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metric Study of Vent Conditions (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ck height and deposition depend on vent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using parametric study results to constrain vent conditions based on observed shock height and peak deposition radi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 include fixed number density at the vent;         optically thin gas; ~8 km vent radius; night side plu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886200" cy="2168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720" y="1600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c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320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57400"/>
            <a:ext cx="53316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3943440"/>
            <a:ext cx="3276720" cy="2914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4320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572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89840" y="412920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550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4320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metric Study of Vent Conditions (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360" y="527220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 shock height (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0000" y="5272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 peak deposition ring radius (R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843200"/>
            <a:ext cx="4648320" cy="3363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95680" y="1843200"/>
            <a:ext cx="4648320" cy="3363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2760" y="5805360"/>
            <a:ext cx="777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figures for other properties, such as the total mass, total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from each band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5:21:27Z</dcterms:created>
  <dc:creator>L2</dc:creator>
  <dc:description/>
  <dc:language>en-US</dc:language>
  <cp:lastModifiedBy>david benjamin goldstein</cp:lastModifiedBy>
  <dcterms:modified xsi:type="dcterms:W3CDTF">2005-06-15T15:28:44Z</dcterms:modified>
  <cp:revision>180</cp:revision>
  <dc:subject/>
  <dc:title>Modeling low density sulfur dioxide jets: application to volcanoes on Jupiter's moon Io</dc:title>
</cp:coreProperties>
</file>